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0B0-E8DB-4E00-9A09-71751D3D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A56-118E-4360-B131-C1A6FD83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728-547A-42FF-A75E-B40423F3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6F5-DDD8-4B5E-B5CA-47885BA3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12FB-3D21-4F27-B5C3-C14A2A9F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C6FF-03E1-45C8-B3F7-B62B75A1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2B81-3845-460B-BBC8-D5C7E05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2F35-4C6D-415F-AAF5-5BECCA8C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B108-3F41-4EF5-BD26-9280DD88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267B-D7C9-486D-8E11-0D04EAA1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96FF-7D38-4082-B325-4A5FE73F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1E8-D2F4-446A-B975-B66A830A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015B-A926-42A7-BE16-39015B65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562B-E991-41DB-BECB-3F497D37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7031-E8C4-4714-ACC8-5171432D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1732-CE92-4EBD-BB02-2222AC4D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5876-63C5-4110-9311-0EE00A09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A222-6F75-4CD1-A9D5-54193AED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9F18-6B47-41BE-920A-19307E7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52BF-5956-4CB9-B0F0-AB9D90E6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2642-AA63-46AB-9FBB-CF2ACCFF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F050-596A-427F-8DC0-2958010C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58F-7CC6-4E88-B7E7-2882A8C3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F2BD-2826-4C79-9FAE-E08EAF4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5D36-9D5C-4B0B-9D4A-306C420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CF9D-5F71-4DAC-A084-B0E7395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E4E6-C7A9-4366-A733-3D8A524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4B48-0EB3-4B1C-A721-FF71202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7CEC-6A40-44C0-BF80-E4779110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FB97-D22E-467B-9A8B-F9349318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8F7E3-4B16-460B-9E55-3A9C39C7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7E05D-5EBD-45C7-99AF-C06E163C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8E99-F8B0-46F5-96F9-03BDD47D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C7F-4ECE-41E2-8A3D-C747DC55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129B-14DB-40AC-AE04-7732AE6B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0CF6-F5EE-4C84-A1AE-90A121E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0E429-CF4F-4DA3-AB68-431D67D3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14B9-D1FA-45A4-B771-832FAD5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0F68-316E-4ADD-BEAA-E62789EC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5EAF-31A6-4270-9EAA-3BFC61DD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8F4B-CB71-4794-BF14-8FAF8F23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E59D9-F95F-4973-A2CF-C3E8910F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F274-4A71-4A7C-BE90-66032A38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34A-3592-42BD-B32E-2C9CF2D2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787-02B5-4C35-A371-CA0B7BE6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A9C-8521-42D8-9EE7-10749D81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458-92EE-4E9B-BC98-526A8DBB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8A2-8E30-47D8-A70B-AC4BF728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88B9-F684-4E03-AA37-838832E2EB9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F76F-B7AA-4A9C-8499-12A670F297C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90A4-FFE8-4E2C-AAD5-3FE14B0A238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703B-358A-47C7-9AC1-305EC040629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Alyssa Herb Wozni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mil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 Seuss’s  real name is Theodor  Seuss Geisel  and he was adopted by  Theodore  Robert  and  Henrietta Seuss.  Theodore was born in Springfield, Massachusetts  Theodore and his father was  Germ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5" descr="http://www.springfieldmasspersonalinjury.com/wp-content/themes/thesis_17/custom/rotator/springfield.jpg"/>
          <p:cNvPicPr/>
          <p:nvPr/>
        </p:nvPicPr>
        <p:blipFill>
          <a:blip r:embed="rId1"/>
          <a:stretch/>
        </p:blipFill>
        <p:spPr>
          <a:xfrm>
            <a:off x="3808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lleg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odore  went to Dartmouth  College .Theodore wrote for a magazine  called  Dartmouth Jack-o-Lantern  editor-in-chief . His  wife was  Helen palmer   he married he in 192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5" descr="http://thehaitihikingproject.org/wp-content/uploads/2011/02/Dartmouth-College.jpg"/>
          <p:cNvPicPr/>
          <p:nvPr/>
        </p:nvPicPr>
        <p:blipFill>
          <a:blip r:embed="rId1"/>
          <a:stretch/>
        </p:blipFill>
        <p:spPr>
          <a:xfrm>
            <a:off x="152280" y="3657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ult Lif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934640"/>
            <a:ext cx="5334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ring World War II, Dr. Seuss wrote Design for Death.  He worked for an animation department for the U.S. A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while he wrote many political carto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7" descr="http://www.childrensclassics.com.au/images/picture_dr_seuss.jpg"/>
          <p:cNvPicPr/>
          <p:nvPr/>
        </p:nvPicPr>
        <p:blipFill>
          <a:blip r:embed="rId1"/>
          <a:stretch/>
        </p:blipFill>
        <p:spPr>
          <a:xfrm>
            <a:off x="5896080" y="3505320"/>
            <a:ext cx="32479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oo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Seuss published 44 children books all filled with imaginative characters the books have rhyming wor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 seuss  wrote many  favorite books  such as : If I Ran the Zoo ,(1950) Horton hears a who ,(1954) Horton hatches the egg ,(1954) If I Ran the Circus ,(1956) The Cat in the Hat ,(1957) how the Grinch stole Christmas ,(1957) and  Green eggs and ham(1960), One fish two fish red fish blue fis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Seuss books were made into 11 television 3 movies and 1 Broadway musical and 4 T.V. serie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http://3.bp.blogspot.com/_LbEOZqOqjYs/SX9ezBBlX_I/AAAAAAAAFl4/W5WZLifFw9o/s400/drseuss_if+I+ran+the+zoo.jpg"/>
          <p:cNvPicPr/>
          <p:nvPr/>
        </p:nvPicPr>
        <p:blipFill>
          <a:blip r:embed="rId1"/>
          <a:stretch/>
        </p:blipFill>
        <p:spPr>
          <a:xfrm>
            <a:off x="3352680" y="374760"/>
            <a:ext cx="1371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ath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22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. Seuss died of throat cancer  September 24, 1991  he  had   years  of poor health he died in San Diego, California and his ashes were scattered and on December 1 1995 the library at UCSD was renamed Geisel Library he was 87 years old when he di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5" descr="http://aedesign.files.wordpress.com/2010/02/geisel_library_ucsd-use.jpg"/>
          <p:cNvPicPr/>
          <p:nvPr/>
        </p:nvPicPr>
        <p:blipFill>
          <a:blip r:embed="rId1"/>
          <a:stretch/>
        </p:blipFill>
        <p:spPr>
          <a:xfrm>
            <a:off x="228600" y="4513320"/>
            <a:ext cx="312408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4:25:52Z</dcterms:created>
  <dc:creator>Lakeview School District</dc:creator>
  <dc:description/>
  <dc:language>en-US</dc:language>
  <cp:lastModifiedBy>Lakeview School District</cp:lastModifiedBy>
  <dcterms:modified xsi:type="dcterms:W3CDTF">2011-05-03T13:24:46Z</dcterms:modified>
  <cp:revision>12</cp:revision>
  <dc:subject/>
  <dc:title>Dr. Suess’ Life </dc:title>
</cp:coreProperties>
</file>